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98F-421D-418A-AFCB-6E6008F8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179-21F3-4AEF-B668-B4C2ED2C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C78-0BAC-4323-9450-89D2E7BC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C85-4E6C-4A2D-B665-FB0CBDB1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58F4-7803-4A00-877B-EF1BF506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FD3B-3804-47A9-B4F1-807F2241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FB65-379C-4175-BE0E-5E3124D8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3965-55FB-4677-8FA8-9EF78EBF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5FB4-F1D3-4ED2-9233-E8E0BD14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F94F-C677-49C5-9659-A9157964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AD9B-1F1F-45FE-BF76-263B4B37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EF4-FC06-4D9F-B1E9-F81F6FED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29A6-E43F-4AB9-A614-41808179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6EE6-713E-4940-8A97-0265170A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B135-A822-41F9-B31C-9D6BC079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F3D7-00A9-4019-9B89-5BC60C4F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2487-3FCD-4D3A-AAB9-49AC9A4E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BC1-D265-474C-8CF3-D803548E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C47-D6CD-4470-ABB7-7E975B76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6FC-D2E2-4929-9167-BFC49295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981-59F0-4B06-8174-CC635C9F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49D-96CE-4704-A21E-428912E7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558-7261-4665-A14D-3C560B57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CE9-78A2-4F6B-A7B4-C01EFC4C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4082-9447-421E-823C-51D6916B49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C788-5A36-439A-9A4E-E7981FABF36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inemademinuit.france3.fr/" TargetMode="External"/><Relationship Id="rId2" Type="http://schemas.openxmlformats.org/officeDocument/2006/relationships/hyperlink" Target="http://cinemademinuit.france3.fr/" TargetMode="External"/><Relationship Id="rId3" Type="http://schemas.openxmlformats.org/officeDocument/2006/relationships/hyperlink" Target="http://cinemademinuit.france3.fr/" TargetMode="External"/><Relationship Id="rId4" Type="http://schemas.openxmlformats.org/officeDocument/2006/relationships/hyperlink" Target="http://programmes.france3.fr/city-homicide" TargetMode="External"/><Relationship Id="rId5" Type="http://schemas.openxmlformats.org/officeDocument/2006/relationships/hyperlink" Target="http://lacrim.france2.fr/" TargetMode="External"/><Relationship Id="rId6" Type="http://schemas.openxmlformats.org/officeDocument/2006/relationships/hyperlink" Target="http://lacrim.france2.fr/" TargetMode="External"/><Relationship Id="rId7" Type="http://schemas.openxmlformats.org/officeDocument/2006/relationships/hyperlink" Target="http://lacrim.france2.fr/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log.francetv.fr/deshommesenvrai/" TargetMode="External"/><Relationship Id="rId2" Type="http://schemas.openxmlformats.org/officeDocument/2006/relationships/hyperlink" Target="http://blog.francetv.fr/deshommesenvrai/" TargetMode="External"/><Relationship Id="rId3" Type="http://schemas.openxmlformats.org/officeDocument/2006/relationships/hyperlink" Target="http://blog.francetv.fr/deshommesenvrai/" TargetMode="External"/><Relationship Id="rId4" Type="http://schemas.openxmlformats.org/officeDocument/2006/relationships/hyperlink" Target="http://blog.francetv.fr/deshommesenvrai/" TargetMode="External"/><Relationship Id="rId5" Type="http://schemas.openxmlformats.org/officeDocument/2006/relationships/hyperlink" Target="http://blog.francetv.fr/deshommesenvrai/" TargetMode="External"/><Relationship Id="rId6" Type="http://schemas.openxmlformats.org/officeDocument/2006/relationships/hyperlink" Target="http://blog.francetv.fr/deshommesenvrai/" TargetMode="External"/><Relationship Id="rId7" Type="http://schemas.openxmlformats.org/officeDocument/2006/relationships/hyperlink" Target="http://blog.francetv.fr/deshommesenvrai/" TargetMode="External"/><Relationship Id="rId8" Type="http://schemas.openxmlformats.org/officeDocument/2006/relationships/hyperlink" Target="http://blog.francetv.fr/deshommesenvrai/" TargetMode="External"/><Relationship Id="rId9" Type="http://schemas.openxmlformats.org/officeDocument/2006/relationships/hyperlink" Target="http://blog.francetv.fr/deshommesenvrai/" TargetMode="External"/><Relationship Id="rId10" Type="http://schemas.openxmlformats.org/officeDocument/2006/relationships/hyperlink" Target="http://blog.francetv.fr/deshommesenvrai/" TargetMode="External"/><Relationship Id="rId11" Type="http://schemas.openxmlformats.org/officeDocument/2006/relationships/hyperlink" Target="http://blog.francetv.fr/deshommesenvrai/" TargetMode="External"/><Relationship Id="rId12" Type="http://schemas.openxmlformats.org/officeDocument/2006/relationships/hyperlink" Target="http://blog.francetv.fr/deshommesenvrai/" TargetMode="External"/><Relationship Id="rId13" Type="http://schemas.openxmlformats.org/officeDocument/2006/relationships/hyperlink" Target="http://blog.francetv.fr/deshommesenvrai/" TargetMode="External"/><Relationship Id="rId14" Type="http://schemas.openxmlformats.org/officeDocument/2006/relationships/hyperlink" Target="http://blog.francetv.fr/deshommesenvrai/" TargetMode="External"/><Relationship Id="rId15" Type="http://schemas.openxmlformats.org/officeDocument/2006/relationships/hyperlink" Target="http://blog.francetv.fr/deshommesenvrai/" TargetMode="External"/><Relationship Id="rId16" Type="http://schemas.openxmlformats.org/officeDocument/2006/relationships/hyperlink" Target="http://blog.francetv.fr/deshommesenvrai/" TargetMode="External"/><Relationship Id="rId17" Type="http://schemas.openxmlformats.org/officeDocument/2006/relationships/hyperlink" Target="http://blog.francetv.fr/deshommesenvrai/" TargetMode="External"/><Relationship Id="rId18" Type="http://schemas.openxmlformats.org/officeDocument/2006/relationships/hyperlink" Target="http://blog.francetv.fr/deshommesenvrai/" TargetMode="External"/><Relationship Id="rId19" Type="http://schemas.openxmlformats.org/officeDocument/2006/relationships/hyperlink" Target="http://blog.francetv.fr/deshommesenvrai/" TargetMode="External"/><Relationship Id="rId20" Type="http://schemas.openxmlformats.org/officeDocument/2006/relationships/hyperlink" Target="http://blog.francetv.fr/deshommesenvrai/" TargetMode="External"/><Relationship Id="rId21" Type="http://schemas.openxmlformats.org/officeDocument/2006/relationships/hyperlink" Target="http://blog.francetv.fr/deshommesenvrai/" TargetMode="External"/><Relationship Id="rId22" Type="http://schemas.openxmlformats.org/officeDocument/2006/relationships/hyperlink" Target="http://blog.francetv.fr/deshommesenvrai/" TargetMode="External"/><Relationship Id="rId23" Type="http://schemas.openxmlformats.org/officeDocument/2006/relationships/hyperlink" Target="http://blog.francetv.fr/deshommesenvrai/" TargetMode="External"/><Relationship Id="rId24" Type="http://schemas.openxmlformats.org/officeDocument/2006/relationships/hyperlink" Target="http://blog.francetv.fr/deshommesenvrai/" TargetMode="External"/><Relationship Id="rId25" Type="http://schemas.openxmlformats.org/officeDocument/2006/relationships/hyperlink" Target="http://blog.francetv.fr/deshommesenvrai/" TargetMode="External"/><Relationship Id="rId26" Type="http://schemas.openxmlformats.org/officeDocument/2006/relationships/hyperlink" Target="http://blog.francetv.fr/deshommesenvrai/" TargetMode="External"/><Relationship Id="rId27" Type="http://schemas.openxmlformats.org/officeDocument/2006/relationships/hyperlink" Target="http://blog.francetv.fr/deshommesenvrai/" TargetMode="External"/><Relationship Id="rId28" Type="http://schemas.openxmlformats.org/officeDocument/2006/relationships/hyperlink" Target="http://blog.francetv.fr/deshommesenvrai/" TargetMode="External"/><Relationship Id="rId29" Type="http://schemas.openxmlformats.org/officeDocument/2006/relationships/hyperlink" Target="http://blog.francetv.fr/deshommesenvrai/" TargetMode="External"/><Relationship Id="rId30" Type="http://schemas.openxmlformats.org/officeDocument/2006/relationships/hyperlink" Target="http://blog.francetv.fr/deshommesenvrai/" TargetMode="External"/><Relationship Id="rId31" Type="http://schemas.openxmlformats.org/officeDocument/2006/relationships/hyperlink" Target="http://blog.francetv.fr/deshommesenvrai/" TargetMode="External"/><Relationship Id="rId32" Type="http://schemas.openxmlformats.org/officeDocument/2006/relationships/hyperlink" Target="http://blog.francetv.fr/deshommesenvrai/" TargetMode="External"/><Relationship Id="rId33" Type="http://schemas.openxmlformats.org/officeDocument/2006/relationships/hyperlink" Target="http://blog.francetv.fr/deshommesenvrai/" TargetMode="External"/><Relationship Id="rId34" Type="http://schemas.openxmlformats.org/officeDocument/2006/relationships/hyperlink" Target="http://blog.francetv.fr/deshommesenvrai/" TargetMode="External"/><Relationship Id="rId35" Type="http://schemas.openxmlformats.org/officeDocument/2006/relationships/hyperlink" Target="http://blog.francetv.fr/deshommesenvrai/" TargetMode="External"/><Relationship Id="rId36" Type="http://schemas.openxmlformats.org/officeDocument/2006/relationships/hyperlink" Target="http://blog.francetv.fr/deshommesenvrai/" TargetMode="External"/><Relationship Id="rId37" Type="http://schemas.openxmlformats.org/officeDocument/2006/relationships/hyperlink" Target="http://blog.francetv.fr/deshommesenvrai/" TargetMode="External"/><Relationship Id="rId38" Type="http://schemas.openxmlformats.org/officeDocument/2006/relationships/hyperlink" Target="http://blog.francetv.fr/deshommesenvrai/" TargetMode="External"/><Relationship Id="rId39" Type="http://schemas.openxmlformats.org/officeDocument/2006/relationships/hyperlink" Target="http://blog.francetv.fr/deshommesenvrai/" TargetMode="External"/><Relationship Id="rId40" Type="http://schemas.openxmlformats.org/officeDocument/2006/relationships/hyperlink" Target="http://blog.francetv.fr/deshommesenvrai/" TargetMode="External"/><Relationship Id="rId41" Type="http://schemas.openxmlformats.org/officeDocument/2006/relationships/hyperlink" Target="http://blog.francetv.fr/deshommesenvrai/" TargetMode="External"/><Relationship Id="rId42" Type="http://schemas.openxmlformats.org/officeDocument/2006/relationships/hyperlink" Target="http://blog.francetv.fr/deshommesenvrai/" TargetMode="External"/><Relationship Id="rId43" Type="http://schemas.openxmlformats.org/officeDocument/2006/relationships/hyperlink" Target="http://blog.francetv.fr/deshommesenvrai/" TargetMode="External"/><Relationship Id="rId44" Type="http://schemas.openxmlformats.org/officeDocument/2006/relationships/hyperlink" Target="http://blog.francetv.fr/deshommesenvrai/" TargetMode="External"/><Relationship Id="rId45" Type="http://schemas.openxmlformats.org/officeDocument/2006/relationships/hyperlink" Target="http://blog.francetv.fr/deshommesenvrai/" TargetMode="External"/><Relationship Id="rId46" Type="http://schemas.openxmlformats.org/officeDocument/2006/relationships/hyperlink" Target="http://blog.francetv.fr/deshommesenvrai/" TargetMode="External"/><Relationship Id="rId47" Type="http://schemas.openxmlformats.org/officeDocument/2006/relationships/hyperlink" Target="http://blog.francetv.fr/deshommesenvrai/" TargetMode="External"/><Relationship Id="rId48" Type="http://schemas.openxmlformats.org/officeDocument/2006/relationships/hyperlink" Target="http://blog.francetv.fr/deshommesenvrai/" TargetMode="External"/><Relationship Id="rId49" Type="http://schemas.openxmlformats.org/officeDocument/2006/relationships/hyperlink" Target="http://blog.francetv.fr/deshommesenvrai/" TargetMode="External"/><Relationship Id="rId50" Type="http://schemas.openxmlformats.org/officeDocument/2006/relationships/hyperlink" Target="http://blog.francetv.fr/deshommesenvrai/" TargetMode="External"/><Relationship Id="rId51" Type="http://schemas.openxmlformats.org/officeDocument/2006/relationships/hyperlink" Target="http://blog.francetv.fr/deshommesenvrai/" TargetMode="External"/><Relationship Id="rId52" Type="http://schemas.openxmlformats.org/officeDocument/2006/relationships/image" Target="../media/image8.png"/><Relationship Id="rId5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es t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isions en Fra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ance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724280"/>
            <a:ext cx="3809880" cy="1295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9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629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grammes du can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é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te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cumentai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533520"/>
            <a:ext cx="1752480" cy="595080"/>
          </a:xfrm>
          <a:prstGeom prst="rect">
            <a:avLst/>
          </a:prstGeom>
          <a:ln w="0">
            <a:noFill/>
          </a:ln>
        </p:spPr>
      </p:pic>
    </p:spTree>
  </p:cSld>
  <p:transition advTm="9000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 magasines 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4 vérit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À vous de jug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ateu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D’aujourd’hu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’art D’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OPOL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609480"/>
            <a:ext cx="1981080" cy="533520"/>
          </a:xfrm>
          <a:prstGeom prst="rect">
            <a:avLst/>
          </a:prstGeom>
          <a:ln w="0">
            <a:noFill/>
          </a:ln>
        </p:spPr>
      </p:pic>
    </p:spTree>
  </p:cSld>
  <p:transition advTm="8000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3429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Vous ofrre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6160" y="2514240"/>
            <a:ext cx="404028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’information en temps réel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issions culturelles intéressan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380880"/>
            <a:ext cx="1600200" cy="544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4238640" cy="1752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4238640" cy="175284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s séries/fictions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inéma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 d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minu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City Homici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L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Crim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'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Famille Serran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mille d'accuei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quêtes réservé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enquêtes de Murdoc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9000"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4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4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4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4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4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4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cc"/>
                </a:solidFill>
                <a:latin typeface="Arial"/>
              </a:rPr>
              <a:t>La Crim`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810240" cy="3276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2438280" cy="327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477120" y="2514600"/>
            <a:ext cx="2419200" cy="327672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De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ommes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en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vrai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_x000b_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E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 en couple,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ê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fil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,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ê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pè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... François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Chilowicz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 a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8"/>
              </a:rPr>
              <a:t>filmé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9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0"/>
              </a:rPr>
              <a:t>sa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1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2"/>
              </a:rPr>
              <a:t>rencon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3"/>
              </a:rPr>
              <a:t> avec 6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4"/>
              </a:rPr>
              <a:t>homme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5"/>
              </a:rPr>
              <a:t> qui, à un moment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6"/>
              </a:rPr>
              <a:t>donné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7"/>
              </a:rPr>
              <a:t> d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8"/>
              </a:rPr>
              <a:t>leur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9"/>
              </a:rPr>
              <a:t> vies, s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0"/>
              </a:rPr>
              <a:t>sont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1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2"/>
              </a:rPr>
              <a:t>interrogé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3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4"/>
              </a:rPr>
              <a:t>sur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5"/>
              </a:rPr>
              <a:t> la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6"/>
              </a:rPr>
              <a:t>difficulté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7"/>
              </a:rPr>
              <a:t> d’être un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8"/>
              </a:rPr>
              <a:t>homm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9"/>
              </a:rPr>
              <a:t>.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0"/>
              </a:rPr>
              <a:t>Consultez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1"/>
              </a:rPr>
              <a:t> l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2"/>
              </a:rPr>
              <a:t>blog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3"/>
              </a:rPr>
              <a:t> du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4"/>
              </a:rPr>
              <a:t>réalisateur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5"/>
              </a:rPr>
              <a:t> et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6"/>
              </a:rPr>
              <a:t>ajoutez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7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8"/>
              </a:rPr>
              <a:t>vo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9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50"/>
              </a:rPr>
              <a:t>commentaire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51"/>
              </a:rPr>
              <a:t> ! _x000b_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2"/>
          <a:stretch/>
        </p:blipFill>
        <p:spPr>
          <a:xfrm>
            <a:off x="1219320" y="1371600"/>
            <a:ext cx="6553080" cy="2779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5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La un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839440" cy="149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11430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NYPD Blu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4495680"/>
            <a:ext cx="472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441864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 u="sng">
                <a:solidFill>
                  <a:srgbClr val="ffffff"/>
                </a:solidFill>
                <a:uFillTx/>
                <a:latin typeface="Verdana"/>
              </a:rPr>
              <a:t>NYPD Blu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la vie d’un commissaria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du 15e district de New York au pri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avec d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histoires de meurtres, vols, trafics de drogu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racisme.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8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ecff"/>
                </a:solidFill>
                <a:uFillTx/>
                <a:latin typeface="Comic Sans MS"/>
              </a:rPr>
              <a:t>BATMA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odèle pour les jeu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28800" y="4343400"/>
            <a:ext cx="5867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TMAN-un classique immor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s enfants et des jeunes ,,BATMAN’’ est  un moyen de developper l’imagination des enfants et d’apprendre le frança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oana</cp:lastModifiedBy>
  <dcterms:modified xsi:type="dcterms:W3CDTF">2009-10-21T18:38:0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